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5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6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7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9F415-5A19-408C-8A3C-C59BB687B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762120" y="48006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inted from the DO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mergency Response Guideboo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hazmat.dot.gov/pubs/erg/gydebook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inted from the DO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mergency Response Guideboo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hazmat.dot.gov/pubs/erg/gydebook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1992-981C-48DA-B4E1-970BE126A8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48A3-6EBB-4FF9-AE7C-44C9B4D6D2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C3E2-7A78-45AD-BD42-274618E447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41CC-1ED1-4ABF-95FF-E8349533E4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1A4C-94ED-4A68-ADB8-21D4C9F1C9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23B0-5B59-4CCC-AFD2-0B6C4BBEFF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2486-7F1C-445A-8185-E9DE4CCE6F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D71F-E4C9-4BFD-9D2A-3E4FCDA6EF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EFA6-7FB5-490C-ABE7-F32B515B2E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F17B-82CD-42F5-9CAB-A882149513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59A1-FDEA-448B-8C93-526F82F329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2B65-70EF-47C9-8A2A-24BFA1F8D9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48DA0-197C-4CD0-AC2D-D6D665BDE9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E0C74-9480-414D-A500-EB495AE8A6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00CE2-EB65-4841-8915-51E3E20E99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34715-55F9-4A80-835F-D8526D3E31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58835-F8BD-47CE-9771-037B82DC34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49A9-6FC4-4968-816A-219610466B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A54C1-71FF-4722-A018-D397168FEE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92A90-D963-47AE-A2EA-E75AFB0AB9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131A4-AB42-42C2-B883-9406FDCB70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6CDC-CB9F-45D8-889D-89C8F2CA4B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2CA8-FC51-462D-B8E0-AF8D325663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DFB3-8EB4-4DE9-87A9-6852561176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12F-E38D-4FF7-B6EE-FA74E4FBAD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3DF-4D1C-43DC-893F-6CC1EF5CE4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5EE-9551-4F18-99D9-1A4DAA65D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55E-3264-464C-A741-252EC8F883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EFB-3411-487E-B91C-39167AA313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DFD-E886-46A1-92BC-12A0E5C09B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A15-1CF3-4954-B376-46DCF34979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F15-1863-4E01-B3D6-6464328993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A87-7BF8-4B67-AAA2-1281825B51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3C5-CB67-4F5E-9D33-37FF3029B3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9AA-3A29-4624-86BD-72B4E76760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4F4-EECC-476F-9F84-703F45B238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95055-98CC-46DA-98FB-FBFF2F9F8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9EEBF-24DF-4697-B165-AE8D22E158B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4460B-1BB8-4345-8D49-26412DCDEE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A01DA-2DC7-44C2-AC35-C193C981754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B6144-1D1A-4627-B164-667E507C183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7B708-D6F7-4292-B456-0B36C1989E7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4122A-FAE9-441C-B6CC-DB1803FF7AE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A3744-A201-4992-AB0D-B60A1CFF159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849F4-BCB6-48AF-AA19-C3D58D6E8CC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502B0-4F24-44DC-AA2B-AA68749DDEC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FC74E-BAD4-4F21-806D-CCFE548E1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91077-E24F-4F35-B03F-BDD92C564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31480" y="3271680"/>
            <a:ext cx="8683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48000"/>
          </a:bodyPr>
          <a:p>
            <a:pPr marL="16452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64520" indent="-164520" algn="ctr">
              <a:spcBef>
                <a:spcPts val="90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64520" indent="-16452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4520" indent="-164520" algn="ctr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164520" indent="-164520" algn="ctr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164520" indent="-164520" algn="ctr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164520" indent="-164520" algn="ctr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4" descr="IAFC4c"/>
          <p:cNvPicPr/>
          <p:nvPr/>
        </p:nvPicPr>
        <p:blipFill>
          <a:blip r:embed="rId2"/>
          <a:stretch/>
        </p:blipFill>
        <p:spPr>
          <a:xfrm>
            <a:off x="3429000" y="76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Line 4"/>
          <p:cNvSpPr/>
          <p:nvPr/>
        </p:nvSpPr>
        <p:spPr>
          <a:xfrm>
            <a:off x="457200" y="1143000"/>
            <a:ext cx="7162920" cy="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CDC1-24BE-4835-B0EC-793351784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IAFC4c"/>
          <p:cNvPicPr/>
          <p:nvPr/>
        </p:nvPicPr>
        <p:blipFill>
          <a:blip r:embed="rId2"/>
          <a:stretch/>
        </p:blipFill>
        <p:spPr>
          <a:xfrm>
            <a:off x="7894800" y="5986440"/>
            <a:ext cx="86832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Line 7"/>
          <p:cNvSpPr/>
          <p:nvPr/>
        </p:nvSpPr>
        <p:spPr>
          <a:xfrm>
            <a:off x="457200" y="1143000"/>
            <a:ext cx="7162920" cy="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2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3C18-4F1D-4B4F-B379-FD1308A52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IAFC4c"/>
          <p:cNvPicPr/>
          <p:nvPr/>
        </p:nvPicPr>
        <p:blipFill>
          <a:blip r:embed="rId2"/>
          <a:stretch/>
        </p:blipFill>
        <p:spPr>
          <a:xfrm>
            <a:off x="7894800" y="5986440"/>
            <a:ext cx="86832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57200" y="1371600"/>
            <a:ext cx="7162920" cy="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3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5F65-B17B-46F1-AC36-A95C79781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IAFC4c"/>
          <p:cNvPicPr/>
          <p:nvPr/>
        </p:nvPicPr>
        <p:blipFill>
          <a:blip r:embed="rId2"/>
          <a:stretch/>
        </p:blipFill>
        <p:spPr>
          <a:xfrm>
            <a:off x="7894800" y="5986440"/>
            <a:ext cx="86832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Num" idx="4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5B6C-9938-41C9-B3F8-FC8220989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IAFC4c"/>
          <p:cNvPicPr/>
          <p:nvPr/>
        </p:nvPicPr>
        <p:blipFill>
          <a:blip r:embed="rId2"/>
          <a:stretch/>
        </p:blipFill>
        <p:spPr>
          <a:xfrm>
            <a:off x="7897680" y="5711760"/>
            <a:ext cx="86832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31480" y="3271680"/>
            <a:ext cx="868356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odule 3: Transportation and Transfer of Ethanol-Blended Fuel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24FD-6968-4E12-AC58-AB0078D08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ation and Placar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FPA 704 diamon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colors, numbers, &amp; special symbols to indicate presence of hazardous mater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number = greater haz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EE92-E959-4B88-A8B6-8ACDA1C6E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FPA 704 Diam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1" descr="NFPA-704-Diamond"/>
          <p:cNvPicPr/>
          <p:nvPr/>
        </p:nvPicPr>
        <p:blipFill>
          <a:blip r:embed="rId1"/>
          <a:stretch/>
        </p:blipFill>
        <p:spPr>
          <a:xfrm>
            <a:off x="1673280" y="987480"/>
            <a:ext cx="5794200" cy="57942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6"/>
          <p:cNvSpPr/>
          <p:nvPr/>
        </p:nvSpPr>
        <p:spPr>
          <a:xfrm>
            <a:off x="2743200" y="6553080"/>
            <a:ext cx="464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pyright 2008, TEEX/ES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BE9E-F871-46E9-9E42-2D7FE0327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ation and Placar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FPA 704 diamon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alth: B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ammability: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ity: Yel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: White (special noti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1706-A550-4006-8A42-C31C09B9D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ation and Placar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NFPA diamond for E-100, E-95, E-85, &amp; gasolin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 Blue health square: slight to moderate irr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: Reactivity yellow squ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: Flammability red square: high flammability with ignition likely under most cond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commonly accepted special character (whit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F841-7D56-4825-86C3-55B90F430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NFPA Diamond for E-100, E-95,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E-85, and Gaso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590920" y="6477120"/>
            <a:ext cx="46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pyright 2008, TEEX/ES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3" descr="NFPA-Diamond-for-E_85"/>
          <p:cNvPicPr/>
          <p:nvPr/>
        </p:nvPicPr>
        <p:blipFill>
          <a:blip r:embed="rId1"/>
          <a:stretch/>
        </p:blipFill>
        <p:spPr>
          <a:xfrm>
            <a:off x="1978200" y="152100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A298-A72A-49E6-88EE-A413BC776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ation and Placar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hazardous materials incidents occur during transportation &amp; transfer ope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 aware of areas / routes where large shipments of ethanol &amp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thanol-blended fuels routinely pa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-95 now leading single hazardous material transported by ra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2BD5-79F9-40FC-B37D-87D4ABC0A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ation and Placar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of Midwest &amp; other ethanol production facilities have access to rail sidings, many bulk storage fuel depots do not have rail siding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ch of E-95 off-loaded &amp; transferred to tanker trucks for distribution to bulk storage facilities via highw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A996-E055-46A8-9AA7-F6F3096B1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ation and Placar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cards able to indicat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gh-concentration ethanol-blended fuel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not distinguish between gasoline &amp; E-10 gasoh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10 requires AR foam for emergency respon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CA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06B4-BB99-4638-AFAC-C7848BA20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tivity 3.1 — Ethanol Spil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rpos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ow participants to determine the hazards associated with an ethanol emerg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7BB5-D066-4ABC-92ED-954264670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ety of sources for information about chemicals involved in spill / fire inciden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nu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T plac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FPA 704 plac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95 become leading hazardous material transported by rai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fer commonly occurs via high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413E-8CB9-4C3E-9DBA-7F8B6EB94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on the successful completion of this module, participants will be able to describe how ethanol-blended fuels are transported and transferred and where the most likely points for error in these actions will exis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641F-51F3-424B-A238-E8DD7A641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to quickly &amp; effectively identify presence of ethanol / ethanol-blended fuels at scene of inci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be challenging because containers in which ethanol is transported not always clearly mark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s taken to ensure incidents managed effectiv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9CD1-05D7-400D-AE30-121C519AC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ation and Placar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soline &amp; ethanol-blended fuels transported in same general types of containers &amp; tan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C-306 / DOT-4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6" descr="Overturned MC-306_DOT-406"/>
          <p:cNvPicPr/>
          <p:nvPr/>
        </p:nvPicPr>
        <p:blipFill>
          <a:blip r:embed="rId1"/>
          <a:stretch/>
        </p:blipFill>
        <p:spPr>
          <a:xfrm>
            <a:off x="4648320" y="2973240"/>
            <a:ext cx="4038480" cy="17798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218" name="Text Box 8"/>
          <p:cNvSpPr/>
          <p:nvPr/>
        </p:nvSpPr>
        <p:spPr>
          <a:xfrm>
            <a:off x="4648320" y="47242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pyright 2006, TEEX/ES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3F6C-A4E7-4626-B741-16E85DB0A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ation and Placar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ifies according to primary dang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s standardized symbols to identify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thanol &amp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thanol-fuel blends in flammable liqui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Content Placeholder 7" descr="Flammable-Placard.gif"/>
          <p:cNvPicPr/>
          <p:nvPr/>
        </p:nvPicPr>
        <p:blipFill>
          <a:blip r:embed="rId1"/>
          <a:stretch/>
        </p:blipFill>
        <p:spPr>
          <a:xfrm>
            <a:off x="4648320" y="1798560"/>
            <a:ext cx="4038480" cy="41292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2"/>
          <p:cNvSpPr/>
          <p:nvPr/>
        </p:nvSpPr>
        <p:spPr>
          <a:xfrm>
            <a:off x="5943600" y="5791320"/>
            <a:ext cx="2378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pyright 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ation and Placar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Content Placeholder 9" descr="Placards.gif"/>
          <p:cNvPicPr/>
          <p:nvPr/>
        </p:nvPicPr>
        <p:blipFill>
          <a:blip r:embed="rId1"/>
          <a:stretch/>
        </p:blipFill>
        <p:spPr>
          <a:xfrm>
            <a:off x="4495680" y="2239920"/>
            <a:ext cx="4545000" cy="324648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C209-FE0E-43EE-A66A-5343F21E8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nker placar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ethanol concentrations up to &amp; including E-10 blended fuels: UN 1203 flammable plac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-85: UN 3475 flammable plac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-95: UN / NA 1987 flammable plac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6477120" y="5410080"/>
            <a:ext cx="237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pyright 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7AF4-0AFB-4EA7-A611-2AAE2EE66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ation and Placar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il tanks identified simila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sure &amp; vacuum relief devices same as currently found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soline-style transport tank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tom loaded &amp; unloaded by standard 4-inch quick connect / direct conne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4352-1FD5-416D-860D-D8C663E3E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ation and Placar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alving internal to tanks with breakaway piping &amp; remote shut-off contr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apor recovery systems same as currently found on gasoline tank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5BE3-3893-4477-BB91-95467FCB4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ation and Placar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E-95 transported by rai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by waterway &amp; very small amounts by pip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2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age depots with no access to rail receive it by road tanker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-loa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6:57:34Z</dcterms:created>
  <dc:creator> </dc:creator>
  <dc:description/>
  <dc:language>en-US</dc:language>
  <cp:lastModifiedBy>Cory Redick</cp:lastModifiedBy>
  <dcterms:modified xsi:type="dcterms:W3CDTF">2010-07-08T20:11:29Z</dcterms:modified>
  <cp:revision>372</cp:revision>
  <dc:subject/>
  <dc:title>PowerPoint: Module 3 - Transportation and Transfer of Ethanol-Blended Fuel</dc:title>
</cp:coreProperties>
</file>