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5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6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7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AB4A0-9EE5-428A-A02F-4C048FFE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762120" y="4800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inted with permissio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rage Tank Emergen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opyright 1997 by Michael Hildebrand &amp; Gregory G. N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D8B3-C817-4C95-B4A6-DB65BF81F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833E-F4AF-4943-AEC3-E3CA991517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5953-786F-4161-9A1F-61AF63E2D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35F-07BF-482E-862D-6D8180F1C7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B1FB-9BE7-43D6-A7EC-F39223223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AACD-12A4-416D-94F4-911AF0EE20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1FAB-A725-405B-A2B9-E9D1CA4EB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EC83-FCED-486D-869F-CAF93EFA7E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4B08-5EF6-4A20-9ACA-FB0D0CEBDE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6FC3-2C81-4B49-B4E1-190F2B845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9AF0-9F06-4E46-9AC3-8B053B089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571-4DB2-4364-A294-3BCDFDEA96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48B1-BE70-4B2B-BA3C-7EF2788C5C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FC79-FBC6-45C0-A8D2-A42DC76C2E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5DB0-185F-4B3E-810A-CAA099C37C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DBED-F552-4D19-B5ED-6DEED77C79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F341-0263-4505-8496-D19CB4E06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609A-4A6B-4D10-9E86-DEE62AF2BD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BAB4-83CF-4838-B8F0-6F786A1698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42AD-D548-44E8-AD9A-68CD1BC062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BD97-C3F8-49CE-991D-95F08A02BE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65F8-209C-4D31-8DE7-5C7E78907C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AE69-FA18-492D-8946-6D98197C58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A173-F406-4D79-AED7-2FC164DE93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2EC-9786-47C7-B870-171C4DD404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572-B723-4AB6-AD67-CFA8A00D93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682-AF4A-4DE0-ACC2-9DA2A45FB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60-20BD-4472-ACD9-EF80A585B8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2C5-2824-466E-802A-18E2A19309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933-9AD0-4243-8477-3F3D21F8EC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33C-E170-490F-9592-515052B5AF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703-C885-4C99-9228-E19060A3BE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6FD-0C41-40CF-8CBF-BD635EBAB4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D1D-CBC5-4AED-B7C1-E93679991D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B4E-2CD8-4300-853E-F1884A98C2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F77-AA45-42F3-834C-133D418E0D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9F94-F6E5-416B-9107-AEA20D731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F36C-B959-4862-9B9E-B8A0CD9202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61A15-3B22-4B7E-9F03-04AE35A142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57D3-B710-4F48-AC88-2CD5F92CF6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FF4E7-6E8E-4D42-93E0-4943A57AD1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E35D6-EDEC-4B78-98E2-100703F728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575C1-00D9-41E7-AC83-47E530370E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44B75-08C0-47CF-A8D7-8321BCE2C2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7ABF-84A4-4020-8E0B-F8AFA15975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38C9E-813C-49AA-B482-9354352A94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989FA-D12F-4AA2-86A8-83697EE5A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2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CDBC-8909-4991-A633-69D90BC4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2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2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31480" y="3271680"/>
            <a:ext cx="868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48000"/>
          </a:bodyPr>
          <a:p>
            <a:pPr marL="164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64520" indent="-164520" algn="ctr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4" descr="IAFC4c"/>
          <p:cNvPicPr/>
          <p:nvPr/>
        </p:nvPicPr>
        <p:blipFill>
          <a:blip r:embed="rId2"/>
          <a:stretch/>
        </p:blipFill>
        <p:spPr>
          <a:xfrm>
            <a:off x="3429000" y="76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Line 4"/>
          <p:cNvSpPr/>
          <p:nvPr/>
        </p:nvSpPr>
        <p:spPr>
          <a:xfrm>
            <a:off x="457200" y="11430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2A0-79B0-46BE-843C-88C2728B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57200" y="11430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7458-DFF3-42FB-8F4A-0C1A6D18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57200" y="13716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FAD-7944-426E-8196-142C6A02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AEB-54A0-4279-8882-A9F41396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IAFC4c"/>
          <p:cNvPicPr/>
          <p:nvPr/>
        </p:nvPicPr>
        <p:blipFill>
          <a:blip r:embed="rId2"/>
          <a:stretch/>
        </p:blipFill>
        <p:spPr>
          <a:xfrm>
            <a:off x="7897680" y="571176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31480" y="3271680"/>
            <a:ext cx="868356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ule 4: Storage and Dispensing Loc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BFE-79E1-439D-91B2-25489A5D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rtiums between multiple tank farm operations &amp; fire depar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t-in fire suppression systems currently best protection for large storage t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e department personnel should be familiar with systems &amp; pre-calculate required flow rat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lan operations supply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exercise at least ann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EDD-C04D-49E7-B6B7-8290D800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limited access for fire fighting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inadequate water supplies i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nel may have to contend with containment dikes &amp; their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miles of exposed product piping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unprotected loading rack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F48E-621E-459A-A6B8-3DFC68C7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-fire planning extremely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-established working relations between fire department &amp; facility ope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F28-127D-40CB-B0A2-3FF1ADFBC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lant and Distribu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ller bulk distribution storage facilities may pose greatest challenge to local fire depar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mmable liquid fuels stored at facilities in modest qua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9B53-E816-49AA-A0FA-166D5C4A2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lant and Distribu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oline / Ethanol-blended fuel normally stored in underground tanks / small volume above-ground steel ta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 / Horizontal 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likely E-10 mix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do not have built-in fire protection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037-1018-4B8C-9715-98F817AC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lant and Distribu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ill diking usually designed to contain largest tank in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idents involving multiple tanks in facility may overtax designed containment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A0B-5448-4F54-A6CB-9FEE7E6C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ail Dispensing S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ty have underground storage ta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vely small in storage volume, large in number throughout coun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/ May not have vapor recovery systems associated with si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rger volume gas stations may have above-ground storage ta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5D5B-655B-4B89-8A95-49AB422E8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ail Dispensing S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led by tan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2008: over 1,000 fueling sites handling E-8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usands more handling E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expected to incr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495-305F-405C-914D-D70C3F61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ail Dispensing S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d in horizontal underground tan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pressure 0.5 ps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nk capa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 constructed of steel &amp; double wal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F-22_underground"/>
          <p:cNvPicPr/>
          <p:nvPr/>
        </p:nvPicPr>
        <p:blipFill>
          <a:blip r:embed="rId1"/>
          <a:stretch/>
        </p:blipFill>
        <p:spPr>
          <a:xfrm>
            <a:off x="4572000" y="2411280"/>
            <a:ext cx="4343400" cy="289908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262" name="Text Box 6"/>
          <p:cNvSpPr/>
          <p:nvPr/>
        </p:nvSpPr>
        <p:spPr>
          <a:xfrm>
            <a:off x="4572000" y="5334120"/>
            <a:ext cx="441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roperty of Hildebrand and Noll, reprint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59F-14B1-4D81-BD75-E9ACBFE6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ail Dispensing S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d in horizontal underground tan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ncy shut-off valves v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ing &amp; unloading points v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ers for multiple tanks color-coded / marked to identify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1DA5-3F10-432A-869A-D2F53142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on the successful completion of this module, participants will be able to discuss common and unusual needs for storage and dispensing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hanol-blended fue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0B3-68F7-4345-9D20-44A722E6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ly found ethanol-blended fuel at terminal facilities is E-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xed fire suppression systems often rendered inoperable at onset of inc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lanning for potential events at tank farm facilities extremely importa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s of mutual 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ount of fuel stored at each station small, sheer number may be cause for conc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5014-404A-451E-98ED-5FE23363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vity 4.1 — Ethanol in Your Jurisdi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ow participants to determine the potential for ethanol emergency in their jurisdi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6AE7-77E6-4B66-A9D2-BA740479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fail to think of gas stations when thinking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ieve if there is no bulk storage operation / production operation in jurisdiction, have little to worry ab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BF3F-DCEF-4FB5-8FF4-98345C7A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atured E-95 most common ethanol blend in storage in terminals &amp; tank fa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formulations blended during loading process for transpor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tom-loading 2 components into tanker tru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hrough in-line mixing / static mixing systems prior to bottom loading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4CF-589B-483E-ABD8-EBDF5816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95 typically stored in conventional carbon steel storage tan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smaller than other tanks at term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general types of storage tan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e roof (closed-top) t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floating roof (EFR) tanks have open top with a floating 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 floating roof (IFR) tanks with closed top &amp; internal floating 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155-A465-4ABE-8A5A-85D2BC7B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ly delivered via tank truck / rail car / bar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no common pipeline delivery meth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95 normally stored in IFR t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95288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2006, TEEX/E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cone_roof_tanks"/>
          <p:cNvPicPr/>
          <p:nvPr/>
        </p:nvPicPr>
        <p:blipFill>
          <a:blip r:embed="rId1"/>
          <a:stretch/>
        </p:blipFill>
        <p:spPr>
          <a:xfrm>
            <a:off x="4954680" y="1508040"/>
            <a:ext cx="3422520" cy="43149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CCE9-6D1B-4D71-A98E-E8C5000E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ilt-in fire protection system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xed syst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21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ation of devices permanently instal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21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ire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21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activated manually / by detection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5CCE-D19A-4FA6-ABE7-43A2B61C9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ilt-in fire protection system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may no longer be appropri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dered inoperable at onset / during fire or explosion emerg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1505-1DBE-4C2A-9833-DBDD46E8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inal Storage of Ethanol-Blended Fu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lanning for potential events at tank farm facilities extremely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 departments that help provide protection to tank farm facilities should hav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o high-flow fire fighting foam equi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upplies of compatible foam available on h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57:34Z</dcterms:created>
  <dc:creator> </dc:creator>
  <dc:description/>
  <dc:language>en-US</dc:language>
  <cp:lastModifiedBy>Cory Redick</cp:lastModifiedBy>
  <dcterms:modified xsi:type="dcterms:W3CDTF">2010-07-08T20:11:46Z</dcterms:modified>
  <cp:revision>410</cp:revision>
  <dc:subject/>
  <dc:title>PowerPoint: Module 4 - Storage and Dispensing Locations</dc:title>
</cp:coreProperties>
</file>